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337F-EDCF-4010-AC4E-66585990A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040C-2480-43D4-8A84-538EDC04F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99DC-C6AB-4050-A021-D37F64A2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C370-0A36-42BE-B1B2-D47DE435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5135-EB9D-4B43-B3C8-0F431D93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950C-EC1C-48D9-B95B-30FAB79F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B334-327F-431C-8FD7-96BAFCB0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CE42-D43F-47EE-9BC2-2884639F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B024-1D17-4691-8B1D-155790F9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610F-B716-4969-ADE1-4FF336AA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80D6-14F5-4928-B14B-D08F449B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4888-6BA3-4104-85C0-62658059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A2CE-78C8-447A-B9A7-CF4D194A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FF59-1E4E-40E4-B896-11C7A70B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3A59-9A67-430B-A1BB-166AFAA5E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hfooza Choudh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hfooza Choudh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228600" y="22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Ver fotos de Mahfooza Choudhu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nviar mensaje a Mahfooza Choudhu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971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Golpea a Mahfooza Choudhu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como estas Nouree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 flipV="1">
            <a:off x="152280" y="3352680"/>
            <a:ext cx="1600200" cy="763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Zena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nombre es Mahfooza Choudhury. Mi escuela es TYWLS de Astoria. Tengo 14 años.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stoy en el grado 9. Mi color favorite es el Azul. Amo lee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ree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d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819520" y="3657600"/>
            <a:ext cx="42670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ñana es mi cumpleaños y estoy muy feli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124080"/>
            <a:ext cx="426708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 Mahfooza. Bunas Días Mahfooza. Estoy muy feliz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2438280"/>
            <a:ext cx="426708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Hola Noureen. Como estas?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esta: Commetario 14 minutes ago. Decembre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895480" y="4191120"/>
            <a:ext cx="41148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FELIZ COMPLEANOS NOURE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819520" y="4724280"/>
            <a:ext cx="419076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Gracias Zenab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.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5410080"/>
            <a:ext cx="441972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5909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164160" y="647712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9" descr="-1.png"/>
          <p:cNvPicPr/>
          <p:nvPr/>
        </p:nvPicPr>
        <p:blipFill>
          <a:blip r:embed="rId1"/>
          <a:stretch/>
        </p:blipFill>
        <p:spPr>
          <a:xfrm>
            <a:off x="2209680" y="4191120"/>
            <a:ext cx="609840" cy="455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Photo on 12-4-12 at 8.58 AM #3.jpg"/>
          <p:cNvPicPr/>
          <p:nvPr/>
        </p:nvPicPr>
        <p:blipFill>
          <a:blip r:embed="rId2"/>
          <a:stretch/>
        </p:blipFill>
        <p:spPr>
          <a:xfrm>
            <a:off x="152280" y="533520"/>
            <a:ext cx="1679760" cy="1600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9" descr="Photo on 12-4-12 at 8.58 AM #3.jpg"/>
          <p:cNvPicPr/>
          <p:nvPr/>
        </p:nvPicPr>
        <p:blipFill>
          <a:blip r:embed="rId3"/>
          <a:stretch/>
        </p:blipFill>
        <p:spPr>
          <a:xfrm>
            <a:off x="2133720" y="2438280"/>
            <a:ext cx="56016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0" descr="Photo on 12-4-12 at 8.58 AM #3.jpg"/>
          <p:cNvPicPr/>
          <p:nvPr/>
        </p:nvPicPr>
        <p:blipFill>
          <a:blip r:embed="rId4"/>
          <a:stretch/>
        </p:blipFill>
        <p:spPr>
          <a:xfrm>
            <a:off x="7848720" y="2743200"/>
            <a:ext cx="56016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1" descr="Photo on 12-4-12 at 8.58 AM #3.jpg"/>
          <p:cNvPicPr/>
          <p:nvPr/>
        </p:nvPicPr>
        <p:blipFill>
          <a:blip r:embed="rId5"/>
          <a:stretch/>
        </p:blipFill>
        <p:spPr>
          <a:xfrm>
            <a:off x="2133720" y="5257800"/>
            <a:ext cx="560160" cy="53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Photo on 12-4-12 at 9-1.jpeg"/>
          <p:cNvPicPr/>
          <p:nvPr/>
        </p:nvPicPr>
        <p:blipFill>
          <a:blip r:embed="rId6"/>
          <a:stretch/>
        </p:blipFill>
        <p:spPr>
          <a:xfrm>
            <a:off x="1371600" y="5257800"/>
            <a:ext cx="609480" cy="406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Photo on 12-4-12 at 9.jpeg"/>
          <p:cNvPicPr/>
          <p:nvPr/>
        </p:nvPicPr>
        <p:blipFill>
          <a:blip r:embed="rId7"/>
          <a:stretch/>
        </p:blipFill>
        <p:spPr>
          <a:xfrm>
            <a:off x="762120" y="5334120"/>
            <a:ext cx="533160" cy="355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5" descr="Photo on 12-4-12 at 9.jpeg"/>
          <p:cNvPicPr/>
          <p:nvPr/>
        </p:nvPicPr>
        <p:blipFill>
          <a:blip r:embed="rId8"/>
          <a:stretch/>
        </p:blipFill>
        <p:spPr>
          <a:xfrm>
            <a:off x="2209680" y="3124080"/>
            <a:ext cx="533520" cy="355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6" descr="Photo on 12-4-12 at 9.jpeg"/>
          <p:cNvPicPr/>
          <p:nvPr/>
        </p:nvPicPr>
        <p:blipFill>
          <a:blip r:embed="rId9"/>
          <a:stretch/>
        </p:blipFill>
        <p:spPr>
          <a:xfrm>
            <a:off x="2209680" y="3657600"/>
            <a:ext cx="533520" cy="355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7" descr="Photo on 12-4-12 at 9.jpeg"/>
          <p:cNvPicPr/>
          <p:nvPr/>
        </p:nvPicPr>
        <p:blipFill>
          <a:blip r:embed="rId10"/>
          <a:stretch/>
        </p:blipFill>
        <p:spPr>
          <a:xfrm>
            <a:off x="2133720" y="6019920"/>
            <a:ext cx="533160" cy="35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9" descr="-1.png"/>
          <p:cNvPicPr/>
          <p:nvPr/>
        </p:nvPicPr>
        <p:blipFill>
          <a:blip r:embed="rId11"/>
          <a:stretch/>
        </p:blipFill>
        <p:spPr>
          <a:xfrm>
            <a:off x="76320" y="5257800"/>
            <a:ext cx="609480" cy="4557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7"/>
          <p:cNvSpPr/>
          <p:nvPr/>
        </p:nvSpPr>
        <p:spPr>
          <a:xfrm>
            <a:off x="2743200" y="6019920"/>
            <a:ext cx="44197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35:48Z</dcterms:created>
  <dc:creator>FriscoISD</dc:creator>
  <dc:description/>
  <dc:language>en-US</dc:language>
  <cp:lastModifiedBy>NYCDOE</cp:lastModifiedBy>
  <dcterms:modified xsi:type="dcterms:W3CDTF">2012-12-07T14:06:42Z</dcterms:modified>
  <cp:revision>104</cp:revision>
  <dc:subject/>
  <dc:title>Profile</dc:title>
</cp:coreProperties>
</file>